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A2B0-0F7E-40B2-81E1-35393B029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31C1-8594-40D3-A317-B7D546F6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E390-1DF5-48BC-80D4-CA2D80989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B349-16E1-4BFF-8F4E-A0E9CF657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EFE2-AB0F-44AA-9E38-A605A9E8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22F1-6396-41F1-AF8A-C7B519B2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CD90-0AF6-4186-ADC5-7C601524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0FAE-9DEF-4BF9-8EDF-B92868B4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B865-0C4D-4D44-AF29-04634991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EA1D-4471-46BB-AC36-44AC447C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BF2E-A64F-40FB-BCC4-B8457A3A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10B3-D202-4923-91B7-A10F55ED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5883-21FB-4FA0-A9DA-A09068B2A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obetv.co.uk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Representation of culture/ethnic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earning Objectiv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uild notes on representations of Ethn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How much do we know about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Indo-Asian cultu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77724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 the UK we define anyone from what is known as the ‘Indian sub-continent’ as being Asian. In the US, Asians are those from oriental Asia (China, Japan, Korea etc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hat nations make up the Indian sub-contin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d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akistan( which was part of India until 194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ri Lan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anglades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iscuss: How could you tell the difference between people of these na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hysical dif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lot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li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10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1000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1000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1000"/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1000"/>
                                        <p:tgtEl>
                                          <p:spTgt spid="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1000"/>
                                        <p:tgtEl>
                                          <p:spTgt spid="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dian sub-continent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which country is Karach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at religion is this a symbol of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ich country used to be known as Ceyl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which country is the cricketer Sachin Tendulkar fro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ich UK city has the highest concentration of UK A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which country do they speak Punjabi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om which country are most of the UK owners of Indian restaurants fro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at is a samos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at meat are Muslims forbidden to ea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Indian weddings what is the dowr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08000" y="213372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kis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in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ri Lan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ice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nglad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pastry with a veg or meat fi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ney given to the bride’s family from the groom’s fam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/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756108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Ethni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777240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scuss these questions with your partn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is meant by ethnicity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is the difference between nationality and ethnic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is your ethnic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re people within the same ethnic group the same in all ways? Are their different “types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thnicity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A cultural distinctiveness based on a number of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ow is Ethnicity form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What contributes to a person’s ethnicity? A combination of fact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Colour of ski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Reli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Na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Cultural specifics- food, clothing, custo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Ethnicity is a complex issue – it involves more than just place of birth or colour of sk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Newham has more than 150 languages spoken in it. However language is just one way to breakdown culture as many languages are spoken within one country or cul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thnicity and the me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421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thnic Niche markets’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hat is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The media providing for a specific ‘niche’ market based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ethnic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Look at this example: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OBE TV - YOUR CHANNEL OF CHO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an you list some other media products/channels that are specifically targeting their audience based on ethnicity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How ethnically diverse is the mainstream British media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xample: 1Xtra is the BBCs attempt at targeting a smaller niche market or is i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1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10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10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sians in the me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Asian community in the UK are well represented on television, particularly in broadcast news med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3284640"/>
            <a:ext cx="2735280" cy="1538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419640" y="3284640"/>
            <a:ext cx="1758960" cy="2338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72360" y="2997360"/>
            <a:ext cx="2592360" cy="2495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971640" y="4941720"/>
            <a:ext cx="2004840" cy="1717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4932360" y="4581360"/>
            <a:ext cx="1608120" cy="2068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4360" y="429264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ajesh Mirchenda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95640" y="2924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George Alagi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43280" y="609300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artin Bash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88000" y="6165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iz Lat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43640" y="3068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rishnan Gurumurt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ther Asians in the Me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588000" y="3141720"/>
            <a:ext cx="2232000" cy="1488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24000" y="4076640"/>
            <a:ext cx="1944360" cy="1944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484360" y="134136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68360" y="1268280"/>
            <a:ext cx="1595520" cy="244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995640" y="6165720"/>
            <a:ext cx="439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40000" y="4508640"/>
            <a:ext cx="3600360" cy="20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an you name any other Asians in the med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What reasons can you give for there being fewer ‘Asian popstars’or acto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4788000" y="1341360"/>
            <a:ext cx="1662120" cy="1800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5940360" y="4581360"/>
            <a:ext cx="1590840" cy="212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6948360" y="1197000"/>
            <a:ext cx="154152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sians in the media continu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353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could be said that Asians ar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nder-represente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 other areas of the media notably, film and mus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scus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films can you name that feature Asian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 many UK Asian musical artists can you name?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Asian stereotyp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3640" y="167328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some of common Asian stereotyp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rd working and stud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usiness min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rong sense of family- close k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ood at Maths (and crick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ney/status orient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ligious/m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rranged marri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assive (except for terroris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iscuss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can you name some media examples where these stereotypes are evide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2560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‘Apu’ iss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haracter of Apu in the Simpsons divides opinion particularly amongst the Asian commun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ch this clip and then discuss his representation as an Asian charac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he Simpsons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gets a way with it because it’s an animation and it uses exaggerated stereotypes to create humour (Chief Wiggum and the police, Krusty and Jewish). However the issue is whether non-Asian audiences are laughing at the character's ‘Asianess’ or at the ‘clever’ use of stereotyp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588000" y="333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13:07:06Z</dcterms:created>
  <dc:creator>gokul</dc:creator>
  <dc:description/>
  <dc:language>en-US</dc:language>
  <cp:lastModifiedBy>Administrator</cp:lastModifiedBy>
  <dcterms:modified xsi:type="dcterms:W3CDTF">2009-09-25T07:30:26Z</dcterms:modified>
  <cp:revision>31</cp:revision>
  <dc:subject/>
  <dc:title>Representation In Soap Opera</dc:title>
</cp:coreProperties>
</file>